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923088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922800" cy="10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3922560" y="-360"/>
            <a:ext cx="29988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49320" y="754200"/>
            <a:ext cx="5022720" cy="37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22320" y="4772160"/>
            <a:ext cx="5076720" cy="451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0" y="9543960"/>
            <a:ext cx="2998800" cy="5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922560" y="9543960"/>
            <a:ext cx="2998800" cy="5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13210037-D487-4A1F-BB19-23B9B4317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22560" y="9543960"/>
            <a:ext cx="2998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C683970-1022-43C6-BDF8-A79F96332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9320" y="75420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2320" y="4772160"/>
            <a:ext cx="50767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49320" y="75420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2320" y="4772160"/>
            <a:ext cx="50767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22560" y="9543960"/>
            <a:ext cx="2998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BA410E73-CB57-4F1D-9AC3-372FE50C6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D76-E6FD-4850-B1A2-E77831B1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790-B393-4408-946B-DB7D8DFD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C77-92ED-4083-AFF5-466F9BF3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EE7-1D97-41E8-B803-949DCB26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1B2-0CFF-49EB-94D4-49DF3989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70E-9AF1-45CE-83FF-B130A7D6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C228-2086-4F59-8BB4-146A3FF4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9A2D-9B25-4FDF-BE70-2D333425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9615-FE31-44F4-8896-7191F939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F06-ED3E-4CA7-A7CC-6DE983B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0B9C-FAAE-440D-BE05-E90A260D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4893-BD5D-47CE-82F4-1779D3FD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A649-B834-445D-BD8D-729F0EC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DE8-4144-485E-B821-88B259E2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81D-3541-4BF8-931F-BDA78A2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DEC7-DC4B-4DC2-A60F-E29D8E0B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BA25-EF69-4DA7-9C74-52C5B27D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8A14-BE2F-4F22-9D20-1EBF61E0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6570-A652-4C63-B4C7-50BB8D5B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9C70-5998-44B0-BC33-0D154205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874-F7E0-4A06-A8BB-669EFE5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0A88-A8A4-4648-A561-5BB7595D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8D92-2667-4EB2-BF35-A7C65C4E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600E-677E-495B-AF1A-CAFF51E7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4D878-12A2-4E5B-B2C9-DAABBE88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F6E9-51CB-466A-837F-0D31A25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1FBD-6E90-443E-A861-8F957B7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9B82-5545-42FB-9F60-4C0C67E2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E75A-0B68-44C6-86A3-6D46DB1D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E7EA-20D4-4C10-9D53-A67D64CD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454C-83CF-44E7-B563-DE9FFC22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9DE-FDA9-4FC5-8B7F-C6425A25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D62A-C36D-4FC6-96CF-716AA5C1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363-673F-4268-A5F4-E1B40C52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892-1018-4357-BE2C-FAD6A5D5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EA7-61F5-4DD5-BD7A-45C9B0AB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FC55-24BA-4C27-942D-A12D4395AA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CDB5-5E71-4A7B-A04A-9C60E5E88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imGoatsLogo_PrintVersion"/>
          <p:cNvPicPr/>
          <p:nvPr/>
        </p:nvPicPr>
        <p:blipFill>
          <a:blip r:embed="rId2"/>
          <a:stretch/>
        </p:blipFill>
        <p:spPr>
          <a:xfrm>
            <a:off x="8001000" y="0"/>
            <a:ext cx="950760" cy="928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107172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imGoatsLogo_PrintVersion"/>
          <p:cNvPicPr/>
          <p:nvPr/>
        </p:nvPicPr>
        <p:blipFill>
          <a:blip r:embed="rId2"/>
          <a:stretch/>
        </p:blipFill>
        <p:spPr>
          <a:xfrm>
            <a:off x="8072280" y="0"/>
            <a:ext cx="878040" cy="857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A04-A025-48DE-BD00-B16DD5A01B9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5490-9C3D-40B0-95A4-AA6407DA10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FC6D-A7EF-4017-B643-161CF58F97D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1812-B1B4-451C-BEE2-A0CBE3F05D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Opening slide Global_PPT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747720" y="311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84807"/>
                </a:solidFill>
                <a:latin typeface="Calibri"/>
                <a:ea typeface="Calibri"/>
              </a:rPr>
              <a:t> </a:t>
            </a:r>
            <a:r>
              <a:rPr b="0" lang="en-GB" sz="2400" spc="-1" strike="noStrike">
                <a:solidFill>
                  <a:srgbClr val="984807"/>
                </a:solidFill>
                <a:latin typeface="Calibri"/>
                <a:ea typeface="Calibri"/>
              </a:rPr>
              <a:t>Small ruminant value chains to reduce poverty and increase food security in India and Mozamb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imGoatsLogo_PrintVersion"/>
          <p:cNvPicPr/>
          <p:nvPr/>
        </p:nvPicPr>
        <p:blipFill>
          <a:blip r:embed="rId2"/>
          <a:stretch/>
        </p:blipFill>
        <p:spPr>
          <a:xfrm>
            <a:off x="7572240" y="214200"/>
            <a:ext cx="1067040" cy="10414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2"/>
          <p:cNvSpPr/>
          <p:nvPr/>
        </p:nvSpPr>
        <p:spPr>
          <a:xfrm>
            <a:off x="2125800" y="1477800"/>
            <a:ext cx="514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00000"/>
                </a:solidFill>
                <a:latin typeface="Calibri"/>
                <a:ea typeface="Calibri"/>
              </a:rPr>
              <a:t>Outcome Map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alibri"/>
                <a:ea typeface="Calibri"/>
              </a:rPr>
              <a:t>Mozamb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" descr="Vertical elect"/>
          <p:cNvPicPr/>
          <p:nvPr/>
        </p:nvPicPr>
        <p:blipFill>
          <a:blip r:embed="rId3"/>
          <a:stretch/>
        </p:blipFill>
        <p:spPr>
          <a:xfrm>
            <a:off x="7570800" y="1714680"/>
            <a:ext cx="135900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EuropeanUnion.png"/>
          <p:cNvPicPr/>
          <p:nvPr/>
        </p:nvPicPr>
        <p:blipFill>
          <a:blip r:embed="rId4"/>
          <a:stretch/>
        </p:blipFill>
        <p:spPr>
          <a:xfrm>
            <a:off x="6632640" y="6067440"/>
            <a:ext cx="973080" cy="64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IFAD"/>
          <p:cNvPicPr/>
          <p:nvPr/>
        </p:nvPicPr>
        <p:blipFill>
          <a:blip r:embed="rId5"/>
          <a:stretch/>
        </p:blipFill>
        <p:spPr>
          <a:xfrm>
            <a:off x="7848720" y="5996160"/>
            <a:ext cx="1081080" cy="669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http://www.baif.org.in/images/btn/logo1.jpg"/>
          <p:cNvPicPr/>
          <p:nvPr/>
        </p:nvPicPr>
        <p:blipFill>
          <a:blip r:embed="rId6"/>
          <a:stretch/>
        </p:blipFill>
        <p:spPr>
          <a:xfrm>
            <a:off x="5435640" y="6446880"/>
            <a:ext cx="868320" cy="214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www.baif.org.in/images/btn/baiflogo.jpg"/>
          <p:cNvPicPr/>
          <p:nvPr/>
        </p:nvPicPr>
        <p:blipFill>
          <a:blip r:embed="rId7"/>
          <a:stretch/>
        </p:blipFill>
        <p:spPr>
          <a:xfrm>
            <a:off x="5651640" y="5902200"/>
            <a:ext cx="428400" cy="54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-355680" y="-171360"/>
            <a:ext cx="9987120" cy="7029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-339840" y="0"/>
            <a:ext cx="98236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2362320" y="586728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imGoatsLogo_PrintVersion"/>
          <p:cNvPicPr/>
          <p:nvPr/>
        </p:nvPicPr>
        <p:blipFill>
          <a:blip r:embed="rId2"/>
          <a:stretch/>
        </p:blipFill>
        <p:spPr>
          <a:xfrm>
            <a:off x="7572240" y="214200"/>
            <a:ext cx="1067040" cy="1041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" descr="Vertical elect"/>
          <p:cNvPicPr/>
          <p:nvPr/>
        </p:nvPicPr>
        <p:blipFill>
          <a:blip r:embed="rId3"/>
          <a:stretch/>
        </p:blipFill>
        <p:spPr>
          <a:xfrm>
            <a:off x="7570800" y="1714680"/>
            <a:ext cx="1359000" cy="150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EuropeanUnion.png"/>
          <p:cNvPicPr/>
          <p:nvPr/>
        </p:nvPicPr>
        <p:blipFill>
          <a:blip r:embed="rId4"/>
          <a:stretch/>
        </p:blipFill>
        <p:spPr>
          <a:xfrm>
            <a:off x="6632640" y="6067440"/>
            <a:ext cx="973080" cy="64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IFAD"/>
          <p:cNvPicPr/>
          <p:nvPr/>
        </p:nvPicPr>
        <p:blipFill>
          <a:blip r:embed="rId5"/>
          <a:stretch/>
        </p:blipFill>
        <p:spPr>
          <a:xfrm>
            <a:off x="7848720" y="5996160"/>
            <a:ext cx="1081080" cy="669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http://www.baif.org.in/images/btn/logo1.jpg"/>
          <p:cNvPicPr/>
          <p:nvPr/>
        </p:nvPicPr>
        <p:blipFill>
          <a:blip r:embed="rId6"/>
          <a:stretch/>
        </p:blipFill>
        <p:spPr>
          <a:xfrm>
            <a:off x="5508720" y="6518160"/>
            <a:ext cx="868320" cy="214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http://www.baif.org.in/images/btn/baiflogo.jpg"/>
          <p:cNvPicPr/>
          <p:nvPr/>
        </p:nvPicPr>
        <p:blipFill>
          <a:blip r:embed="rId7"/>
          <a:stretch/>
        </p:blipFill>
        <p:spPr>
          <a:xfrm>
            <a:off x="5724360" y="5975280"/>
            <a:ext cx="427320" cy="542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19280" y="-273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did you put OM into practice? 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7280" y="1197000"/>
            <a:ext cx="7745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 planned to do after July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n overview of data that were already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types of information collected b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r group registration (once, group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nt registration (once, individ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vet participation (twice, for tra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 of producer trainings (group, every tra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 of goats sales at fairs (every f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imal health and productivity tool (regularly by parav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reports (every IP me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315200" cy="4114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1450800" y="-27000"/>
            <a:ext cx="80899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19280" y="-273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did you put OM into practice? 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87280" y="1196640"/>
            <a:ext cx="7745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additional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4 outcome journals: 1 for each boundary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CARE project and extension officers to regularly fill in each journal based on thei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://4.bp.blogspot.com/-L2ECejk3UOI/TpNX4s89KxI/AAAAAAAAARM/18nAcQSIcpc/s1600/di%25C3%25A1rio.jpg"/>
          <p:cNvPicPr/>
          <p:nvPr/>
        </p:nvPicPr>
        <p:blipFill>
          <a:blip r:embed="rId1"/>
          <a:stretch/>
        </p:blipFill>
        <p:spPr>
          <a:xfrm>
            <a:off x="6084720" y="4032360"/>
            <a:ext cx="28688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19280" y="-273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did you put OM into practice? 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87280" y="1197000"/>
            <a:ext cx="774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e d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using the journal we had a team meeting with th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o discover what OM information the entire imGoats team ‘intuitively’ can come up with – know by heart - and to test if the idea of a monthly meeting to gather information works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http://4.bp.blogspot.com/-L2ECejk3UOI/TpNX4s89KxI/AAAAAAAAARM/18nAcQSIcpc/s1600/di%25C3%25A1rio.jpg"/>
          <p:cNvPicPr/>
          <p:nvPr/>
        </p:nvPicPr>
        <p:blipFill>
          <a:blip r:embed="rId1"/>
          <a:stretch/>
        </p:blipFill>
        <p:spPr>
          <a:xfrm>
            <a:off x="7093080" y="4975200"/>
            <a:ext cx="18604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-1717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Arial"/>
              </a:rPr>
              <a:t>OM team meeting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58920" y="1123560"/>
            <a:ext cx="73152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useful 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lk abou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– instead of wri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s and ideas o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ll team memb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sha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Journal ques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basis for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520" y="-1717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Arial"/>
              </a:rPr>
              <a:t>OM team meeting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836280"/>
            <a:ext cx="73152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tal amount of information the team knows ‘intuitively’ seemed to b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collect OM data in a monthly mee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eeting took almost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4 hour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iscuss all progress markers. This was considered accep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llected OM data seemed to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e more robu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discussed – and questioned – by the entire team, instead of asking individuals to fill in a for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such a meeting  go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eyond OM data colle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t was considered very useful for all team members to discuss project progress and challenges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520" y="-100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Arial"/>
              </a:rPr>
              <a:t>OM team meeting 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32000" y="980640"/>
            <a:ext cx="7315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lear if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collected data is sufficient for a robust OM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ing devi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eared to be useful to check the information when composing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not decided yet how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OM (incl. language of notes and report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good to verify behavioural changes and follow-up questions with stakeholders in the field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eld vis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-27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Arial"/>
              </a:rPr>
              <a:t>Adjustments and follow-up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32000" y="980640"/>
            <a:ext cx="7315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 adjustments in OM framewor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few progress markers have been reformulated or remo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stment of t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ur outcome journals were merged into one ‘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acilitator guid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s were added on Capacity building &amp; G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on frequency of meet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thly OM team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guage of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etings are in Portuguese, notes are made in English (by Mila and Birg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es are translated into Portuguese to share with team members before next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ative data fi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e  document (OM report) is monthly updated with the notes of each meeting and information from IP repor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vis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d on most recent OM meeting, to follow-up and verify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DownieNginiK</dc:creator>
  <dc:description/>
  <dc:language>en-US</dc:language>
  <cp:lastModifiedBy>eleborgne</cp:lastModifiedBy>
  <dcterms:modified xsi:type="dcterms:W3CDTF">2012-07-05T06:23:14Z</dcterms:modified>
  <cp:revision>238</cp:revision>
  <dc:subject/>
  <dc:title>PowerPoint Presentation</dc:title>
</cp:coreProperties>
</file>